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9315-DEB0-4F4D-A554-39A92F31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1432-9DCF-4946-984D-865CD0C8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E022-CC62-430E-ABA8-E228F9399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4D0D-EAC0-42CE-B530-44551B8E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6B85-3CC1-488C-B6B9-E3DC7AF9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B616-7612-46F8-B8AF-2D0212C7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5CBA-57CD-494A-B6F3-AB54AD38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35A6-DBAC-4F76-BF13-1A45E03A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7CC2-97EE-480C-8292-3E3926A3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1258-E969-48FE-A4EF-7F540F09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F9A5-B16F-4B27-8EAA-644E4A19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AE3E-6D9C-4FB3-89B6-385A15EE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46C9-81F3-4EF3-B87E-3087004F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AB99-8431-4162-9403-62650703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6796-3C90-43BB-9E58-85828493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6980-E51D-4ECA-8E5E-EED15FE3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B588-745A-483C-8264-6C82B00B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ACC6-E4A9-40A6-BB66-7ACBC7AD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EC7B-749C-43A6-BDC1-C69F2250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1A99-77A6-4CAF-B11C-7308B13D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D003-CE9B-45EF-BF3A-74A2D8B4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26C1-9D89-45F5-91EA-112E8409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F3B1-1BF3-483E-9ED8-D6A20473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C6EA-24E1-4429-92B7-C9784CB9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CFCB-C589-4CE2-A4F9-3AD92AF1F5E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87A8-4944-40F4-BB17-C94DE54FC38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quia.com/rr/520440.html" TargetMode="External"/><Relationship Id="rId2" Type="http://schemas.openxmlformats.org/officeDocument/2006/relationships/hyperlink" Target="http://www.studyspanish.com/lessons/serest1.htm" TargetMode="External"/><Relationship Id="rId3" Type="http://schemas.openxmlformats.org/officeDocument/2006/relationships/hyperlink" Target="http://www.quia.com/jg/400520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Ser vs. Estar</a:t>
            </a:r>
            <a:br>
              <a:rPr sz="66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“to be”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a, Pablo, y Ca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90720" y="380880"/>
            <a:ext cx="723888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l Fin!!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1930320" cy="2828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rcRect l="0" t="0" r="12500" b="6141"/>
          <a:stretch/>
        </p:blipFill>
        <p:spPr>
          <a:xfrm>
            <a:off x="3124080" y="2666880"/>
            <a:ext cx="3016440" cy="2635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400800" y="2514600"/>
            <a:ext cx="2306520" cy="2971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762120" y="5715000"/>
            <a:ext cx="1600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bl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09880" y="5715000"/>
            <a:ext cx="1447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m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705720" y="5791320"/>
            <a:ext cx="160020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ati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cc"/>
                </a:solidFill>
                <a:latin typeface="Tahoma"/>
              </a:rPr>
              <a:t>Ser</a:t>
            </a:r>
            <a:endParaRPr b="0" lang="en-US" sz="8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oy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omo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oi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Ser</a:t>
            </a:r>
            <a:br>
              <a:rPr sz="5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more permanent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cri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g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racteristic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cup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i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bstance (what it’s made o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ss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1981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word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cc"/>
                </a:solidFill>
                <a:latin typeface="Tahoma"/>
              </a:rPr>
              <a:t>Estar</a:t>
            </a:r>
            <a:endParaRPr b="0" lang="en-US" sz="8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sto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stá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stá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stamo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stái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stá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sta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s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tion in progress (“-ing”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1752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yword: 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5029200"/>
            <a:ext cx="7315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you feel and where you are, always use the verb es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r examp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ara mí, el argumento es muy origi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my opinion the argument is very origi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s paredes son de plást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alls are made of plast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i amiga y yo somos bonita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 friend and I are pret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star examp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bailarina está muy bonita ho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allerina is very pretty to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sotros estamos en Taco Be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re at Taco Be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actores están muy nervios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ctors are very nervo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r o Estar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jueves a las 3:30 ______ la reunión de Caras y Careta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s miembros ______ estudiantes, profesores y otr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storos ______ muy orgullosos de la obra de estos jóven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ink to Ser o Estar activit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quia.com/rr/520440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www.studyspanish.com/lessons/serest1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://www.quia.com/jg/400520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18:08:56Z</dcterms:created>
  <dc:creator>378-student</dc:creator>
  <dc:description/>
  <dc:language>en-US</dc:language>
  <cp:lastModifiedBy>378-student</cp:lastModifiedBy>
  <dcterms:modified xsi:type="dcterms:W3CDTF">2010-05-27T18:59:00Z</dcterms:modified>
  <cp:revision>3</cp:revision>
  <dc:subject/>
  <dc:title>Ser vs. Estar “to be”</dc:title>
</cp:coreProperties>
</file>